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A80-3EF6-4A32-B8BA-43938951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761-0E65-4E01-84C6-D7C393F5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1F4-E62B-4DA5-B79B-65D32D04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892-B2FE-4F50-9ECB-29DC8C00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A4FD-C4FC-4672-BB6E-72A708CF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52B-643F-4499-9F65-86C0226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D4E5-9890-4548-A9C0-4558D06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E2A4-3540-40C4-B045-F9D80F06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2842-4A24-429C-ACD7-F4537C5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67E9-94F7-46E5-B028-3CB775FE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3285-220B-4500-B70E-0173579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447-5815-4A4D-A27F-20A862DA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8501-3E55-421C-B97A-C59F212C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C61-36E7-4327-90DE-964452E7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B279-1410-4357-8B84-71F6FCFF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21A6-D89F-46BA-A5A4-4AB03DD1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B55C-8723-4419-8185-C67CCE44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C8A-0251-4D4E-8417-E834FE80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702-D1A6-4570-9946-F54261E4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2B8-C933-431A-B39A-E7684D6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6F9-3551-4CC7-823E-062C1078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257-AE43-42B8-A39D-E01BBC8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A6B-470F-4D2C-BCBD-B505189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C94-8244-4476-869F-4379C5FF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AE77-029C-45E8-9944-9B379ABB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8DF-9F49-438D-854F-92F89472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6600"/>
                </a:solidFill>
                <a:latin typeface="Times New Roman"/>
              </a:rPr>
              <a:t>The End of Traditional Society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Crises  (1300—14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were three Crises in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vision between Church and State, otherwise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pal Sc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00 Years W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France and Engl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lack Deat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ubonic Pl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Boniface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559040" cy="4724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869200" y="99072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pal Sc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Papal Schism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has always been a struggle between King and the P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pe did not want the clergy to be tax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a result, in France, King Philip IV captured the Pope (Boniface VIII) and forced the Papacy to be controlled from Avig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me responded by electing a new P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:  2 Pop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did not know which Pope to place their faith, so many gave up on salvation altoget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359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72200" cy="4379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986560" y="114300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100 Years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The 100 Years War (1337—1450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ght between England and Fr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battles fought on French terri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was fought over l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supported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corched Earth Policy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 everything, leaving nothing for your enemy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nce lost most battles because of thei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ival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de, a code of behaviour for knigh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:  much of the land was destroyed, many cities devastated, lives were l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oath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956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marcello3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802400" cy="4810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190320" y="99072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lack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city9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1364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wat-tyler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008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66"/>
                </a:solidFill>
                <a:latin typeface="Times New Roman"/>
              </a:rPr>
              <a:t>Spread of the Plague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5" name="msBD3b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8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Europe in 1555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7" name="central_europe_1555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agen_plague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black_death_survivors_tale_b" descr=""/>
          <p:cNvPicPr/>
          <p:nvPr/>
        </p:nvPicPr>
        <p:blipFill>
          <a:blip r:embed="rId1"/>
          <a:stretch/>
        </p:blipFill>
        <p:spPr>
          <a:xfrm>
            <a:off x="2000160" y="1332000"/>
            <a:ext cx="577224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apoimage3hell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3008160" cy="4925880"/>
          </a:xfrm>
          <a:prstGeom prst="rect">
            <a:avLst/>
          </a:prstGeom>
          <a:ln w="0">
            <a:noFill/>
          </a:ln>
        </p:spPr>
      </p:pic>
      <p:pic>
        <p:nvPicPr>
          <p:cNvPr id="359" name="massgrave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38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Plag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eople believed the Plague was caused by G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—30% of Europe’s population was destroyed by 1350, never to fully recover until 16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ho survived the Plague were better off because there now was more money for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ones faith was put to be put to the extre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Protestant Re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3" name="luther2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2935080" cy="3200400"/>
          </a:xfrm>
          <a:prstGeom prst="rect">
            <a:avLst/>
          </a:prstGeom>
          <a:ln w="0">
            <a:noFill/>
          </a:ln>
        </p:spPr>
      </p:pic>
      <p:pic>
        <p:nvPicPr>
          <p:cNvPr id="364" name="indulgenceletter-forstpeters-Mainz-1516-17-2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74372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Protestant Re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testant Reformation was a movement in the early 1500’s to break up the Catholic wor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October 31, 1517, a preacher named Martin Luther was fed up with the Catholic Church sell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ulgences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o purchase your freedom to Hea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ther post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95 Thesi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“things” for debate on his Church door against the teachings of the Papa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became a popular m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archs supported him, particularly England’s King Henry 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Times New Roman"/>
              </a:rPr>
              <a:t>King Henry VIII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8" name="HOH011_L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133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King Henry VIII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nry had 6 w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could only produce one male heir to the thr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such, he wanted a divorce but the Catholic Church would grant him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 had most of his wives execu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of the Protestant Reformation on continental Europe, Henry started his own Church: 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urch of Engl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6600"/>
                </a:solidFill>
                <a:latin typeface="Times New Roman"/>
              </a:rPr>
              <a:t>“…</a:t>
            </a:r>
            <a:r>
              <a:rPr b="0" i="1" lang="en-US" sz="4800" spc="-1" strike="noStrike">
                <a:solidFill>
                  <a:srgbClr val="cc6600"/>
                </a:solidFill>
                <a:latin typeface="Times New Roman"/>
              </a:rPr>
              <a:t>and traditional society continued to crumble.”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2" name="arthur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946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Religion  (800—1300)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ristian Church was the center of everything.  People lived according to their beliefs of the Chu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urch’s head was the P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800 AD, the Pope crowned a German K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ly Roman Emper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rotect the Church from outside reli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name w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rlemagn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742—814) 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arles the Gre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1_0020b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392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Religion  (800—13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lemagne believed his coronation meant that he would be equal to the Pope’s author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there would be two rulers that people could follow—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ula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f the state) 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er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f the church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d to dozens of years of struggle between Pope and King as to whom had the ultimate authority to r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Society  (800—13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European society was centered arou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eudalis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system where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asa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rked and lived on land owned by a King’s relative or friend (Lord).  Th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ndlo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give them protec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image of a Lord and a peasa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0318montyptitle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029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dieval Society  (800—1300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udalism lasted until cities began to gr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ies grew because peasants wanted to make choices in their lives (ex. To make $ 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this point, peasants believed their lives were controlled by God.  They would only live a short life on earth and then spend an eternity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urgat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judgment) after death.  Only Saints would enter into Hea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373712A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9:51:05Z</dcterms:created>
  <dc:creator>Leo Hayes High School</dc:creator>
  <dc:description/>
  <dc:language>en-US</dc:language>
  <cp:lastModifiedBy>district 18</cp:lastModifiedBy>
  <dcterms:modified xsi:type="dcterms:W3CDTF">2006-04-30T17:55:42Z</dcterms:modified>
  <cp:revision>22</cp:revision>
  <dc:subject/>
  <dc:title>The End of Traditional Society</dc:title>
</cp:coreProperties>
</file>